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FD87-D015-4435-B3F9-12510836F4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445C-4064-4386-B330-AE1C57EA949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BCC9-02A4-44DA-BB25-ADEACAA65A3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9570-0179-4DEB-A8D4-FF8A19E9D04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9FED-291B-43CF-94A9-429CC5F15E7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4DFE-EAF1-43EF-A4A7-891424C94A8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2572-2133-478D-9209-EA6B6A04A7C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2A06-2B21-47A1-9A90-363D12A7140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DA87-DF6B-4DEB-9982-4D96270C1B9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ACE4-35B7-4391-92EB-EC71098C496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58D5-F78C-479D-A418-CA6E1086FB6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478B-9CEA-4C44-92F8-D27DAC7F48B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DE8F-483B-492A-AAC3-1DF25E82EB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CCB8-D9C6-4563-AC04-3460DD206F6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97EF-76AA-4621-850D-1AF12317D6B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1410-2C1E-42E6-95F9-1EB90847061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2E6B-B45B-49A4-9CB2-8CAA5F2E880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F83E-A42C-43A6-A981-28367BA3B94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CCA0-7311-4F58-88F9-C0D8BE17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C7E3-5EFD-4A34-9154-9B341C70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AACE-D269-4CD1-A794-13EEF38B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8BB3-0ADC-46FE-92FD-C897B89C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8820-5AE3-4F6D-9E8F-80A8DC61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88A1-E711-42EF-8780-FE3FAFD2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FC52-1370-403A-8568-922B3D36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D34F-F3A4-44BD-B559-B7529776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F147-6CB5-421D-921E-63EB7CEB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B30C-16C3-408A-AC45-B73E0153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FDD5-D178-43BF-99FF-E5B0849C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DA34-CBDB-47FE-B149-D49D476F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68FD-193F-4397-AA17-28AE034F9B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The Chemistry of Lif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80920" y="6019920"/>
            <a:ext cx="22100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Ms. Sanford &amp; Mr. O’Connor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Jefferson High School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November 11, 2008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Polysaccharides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tinued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828440" y="990720"/>
            <a:ext cx="6705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Calibri"/>
              </a:rPr>
              <a:t>Star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orage product of plan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00’s of glucose uni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ranched and unbranch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96ff"/>
                </a:solidFill>
                <a:latin typeface="Calibri"/>
              </a:rPr>
              <a:t>Glycog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arbohydrate storage in anima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milar  to plant starch by more branch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ntinuous source of energ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y simple sugar not used or stored as glycogen becomes f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alibri"/>
              </a:rPr>
              <a:t>Cellulo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ighly insoluble form of polysaccharid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used for structural  support in plan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3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2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26" dur="2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770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6" dur="77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8" dur="77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0" dur="77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Lipid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52120" y="914040"/>
            <a:ext cx="6782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rganic form of stored energ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d as energy, after carbohydra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clud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a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i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ax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ree fatty acid molecules and one glycero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ehydration synthesis – gives off 3 water molecul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t should be 20 – 35% of calories you consu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ree Types:  (each should be 1/3 of fat intak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aturat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onounsaturat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olyunsaturat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5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5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5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5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7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5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Saturated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437920" y="838080"/>
            <a:ext cx="6705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lid at room temperatu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aises blood cholestero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urce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nimal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ar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utt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hees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e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Picture 3" descr="Fatty Acids.gif"/>
          <p:cNvPicPr/>
          <p:nvPr/>
        </p:nvPicPr>
        <p:blipFill>
          <a:blip r:embed="rId1"/>
          <a:srcRect l="0" t="0" r="0" b="52598"/>
          <a:stretch/>
        </p:blipFill>
        <p:spPr>
          <a:xfrm>
            <a:off x="2743200" y="4952880"/>
            <a:ext cx="4929120" cy="17528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2362320" y="441972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Single bonds that join two carbo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lard.jpg"/>
          <p:cNvPicPr/>
          <p:nvPr/>
        </p:nvPicPr>
        <p:blipFill>
          <a:blip r:embed="rId2"/>
          <a:stretch/>
        </p:blipFill>
        <p:spPr>
          <a:xfrm>
            <a:off x="685800" y="68580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butter.bmp"/>
          <p:cNvPicPr/>
          <p:nvPr/>
        </p:nvPicPr>
        <p:blipFill>
          <a:blip r:embed="rId3"/>
          <a:srcRect l="18903" t="8941" r="14201" b="11763"/>
          <a:stretch/>
        </p:blipFill>
        <p:spPr>
          <a:xfrm>
            <a:off x="609480" y="2057400"/>
            <a:ext cx="1295640" cy="1022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heese.jpg"/>
          <p:cNvPicPr/>
          <p:nvPr/>
        </p:nvPicPr>
        <p:blipFill>
          <a:blip r:embed="rId4"/>
          <a:stretch/>
        </p:blipFill>
        <p:spPr>
          <a:xfrm>
            <a:off x="685800" y="3352680"/>
            <a:ext cx="1143000" cy="1067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meat.jpg"/>
          <p:cNvPicPr/>
          <p:nvPr/>
        </p:nvPicPr>
        <p:blipFill>
          <a:blip r:embed="rId5"/>
          <a:stretch/>
        </p:blipFill>
        <p:spPr>
          <a:xfrm>
            <a:off x="533520" y="4724280"/>
            <a:ext cx="1566720" cy="10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2" dur="2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120" y="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Unsaturated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09680" y="7621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96ff"/>
                </a:solidFill>
                <a:latin typeface="Calibri"/>
              </a:rPr>
              <a:t>Monounsaturat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spcBef>
                <a:spcPts val="60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ittle effect on blood cholesterol but provides a concentrated source of calor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spcBef>
                <a:spcPts val="60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lives, olive oil, peanuts, peanut butter, peanut oil, avocados, pecans, and almond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34bc9"/>
                </a:solidFill>
                <a:latin typeface="Calibri"/>
              </a:rPr>
              <a:t>Polyunsaturat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spcBef>
                <a:spcPts val="60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ow in cholesterol and liquid at room tempera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857160" indent="-457200">
              <a:spcBef>
                <a:spcPts val="60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vegetable oils such as cotton seed, sunflowers, sesame and soybea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4648320" y="2743200"/>
            <a:ext cx="2154240" cy="757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3886200" y="5181480"/>
            <a:ext cx="3352680" cy="789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6"/>
          <p:cNvSpPr/>
          <p:nvPr/>
        </p:nvSpPr>
        <p:spPr>
          <a:xfrm>
            <a:off x="2438280" y="617220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Double bonds join two or more carbo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6" descr="olive oils.jpg"/>
          <p:cNvPicPr/>
          <p:nvPr/>
        </p:nvPicPr>
        <p:blipFill>
          <a:blip r:embed="rId3"/>
          <a:stretch/>
        </p:blipFill>
        <p:spPr>
          <a:xfrm>
            <a:off x="304920" y="228600"/>
            <a:ext cx="1427040" cy="2019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peanuts.jpg"/>
          <p:cNvPicPr/>
          <p:nvPr/>
        </p:nvPicPr>
        <p:blipFill>
          <a:blip r:embed="rId4"/>
          <a:stretch/>
        </p:blipFill>
        <p:spPr>
          <a:xfrm>
            <a:off x="1066680" y="2438280"/>
            <a:ext cx="1320840" cy="990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sunflower seeds.bmp"/>
          <p:cNvPicPr/>
          <p:nvPr/>
        </p:nvPicPr>
        <p:blipFill>
          <a:blip r:embed="rId5"/>
          <a:stretch/>
        </p:blipFill>
        <p:spPr>
          <a:xfrm>
            <a:off x="304920" y="3886200"/>
            <a:ext cx="1466640" cy="1100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soybeans.jpg"/>
          <p:cNvPicPr/>
          <p:nvPr/>
        </p:nvPicPr>
        <p:blipFill>
          <a:blip r:embed="rId6"/>
          <a:stretch/>
        </p:blipFill>
        <p:spPr>
          <a:xfrm>
            <a:off x="1143000" y="5334120"/>
            <a:ext cx="135900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4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77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5" dur="770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7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9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Proteins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&amp; Amino Acid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040" y="99072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cromolecul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 charge of growth and repair of cell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15% of the mass of the average pers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de up of </a:t>
            </a: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amino acids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(50 – 2,000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 only essential amino aci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asic chemical building block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mino means there is an NH2 grou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carboxyl group is made up of 1-(C), 2-(O), 1-(H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acidi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0 amino acid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20 are Essential (for life to exist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ild all proteins needed for lif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d in every cell of your bod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1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8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6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2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2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2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7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ounded Rectangle 5"/>
          <p:cNvSpPr/>
          <p:nvPr/>
        </p:nvSpPr>
        <p:spPr>
          <a:xfrm>
            <a:off x="3809880" y="3352680"/>
            <a:ext cx="5334120" cy="32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More Amino Acid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1920" y="1142640"/>
            <a:ext cx="3581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w are they different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ent side group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ree group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96ff"/>
                </a:solidFill>
                <a:latin typeface="Calibri"/>
              </a:rPr>
              <a:t>Ionic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4bc9"/>
                </a:solidFill>
                <a:latin typeface="Calibri"/>
              </a:rPr>
              <a:t>Pola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Non-pola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Join together to make a cha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0" name="Picture 3" descr="amino acid structure.jpg"/>
          <p:cNvPicPr/>
          <p:nvPr/>
        </p:nvPicPr>
        <p:blipFill>
          <a:blip r:embed="rId1"/>
          <a:srcRect l="7004" t="25585" r="4279" b="2909"/>
          <a:stretch/>
        </p:blipFill>
        <p:spPr>
          <a:xfrm>
            <a:off x="4572000" y="1371600"/>
            <a:ext cx="2540160" cy="1370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amino acids combining.gif"/>
          <p:cNvPicPr/>
          <p:nvPr/>
        </p:nvPicPr>
        <p:blipFill>
          <a:blip r:embed="rId2"/>
          <a:stretch/>
        </p:blipFill>
        <p:spPr>
          <a:xfrm>
            <a:off x="3733920" y="3276720"/>
            <a:ext cx="5410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4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6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4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2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9" dur="1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Proteins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ntinued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66320" y="7621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re are proteins mad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 the ribosom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hydration synthesis makes prote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mino acids form </a:t>
            </a:r>
            <a:r>
              <a:rPr b="1" lang="en-US" sz="2400" spc="-1" strike="noStrike">
                <a:solidFill>
                  <a:srgbClr val="ff6699"/>
                </a:solidFill>
                <a:latin typeface="Century Gothic"/>
                <a:ea typeface="Arial"/>
              </a:rPr>
              <a:t>dipeptides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ny dipeptides/polypeptides form prote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ent order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protein typ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ighly folded and all twisted around like a kno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2438280" y="2819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entury Gothic"/>
              </a:rPr>
              <a:t>di</a:t>
            </a:r>
            <a:r>
              <a:rPr b="1" lang="en-US" sz="2400" spc="-1" strike="noStrike">
                <a:solidFill>
                  <a:srgbClr val="0070c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+  </a:t>
            </a:r>
            <a:r>
              <a:rPr b="1" lang="en-US" sz="2400" spc="-1" strike="noStrike">
                <a:solidFill>
                  <a:srgbClr val="ff6699"/>
                </a:solidFill>
                <a:latin typeface="Century Gothic"/>
              </a:rPr>
              <a:t>di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+  </a:t>
            </a:r>
            <a:r>
              <a:rPr b="1" lang="en-US" sz="2400" spc="-1" strike="noStrike">
                <a:solidFill>
                  <a:srgbClr val="ff6699"/>
                </a:solidFill>
                <a:latin typeface="Century Gothic"/>
              </a:rPr>
              <a:t>di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=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2438280" y="39625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poly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+ 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poly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=  </a:t>
            </a:r>
            <a:r>
              <a:rPr b="1" lang="en-US" sz="2400" spc="-1" strike="noStrike">
                <a:solidFill>
                  <a:srgbClr val="00b050"/>
                </a:solidFill>
                <a:latin typeface="Century Gothic"/>
              </a:rPr>
              <a:t>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Protein Structure.jpg"/>
          <p:cNvPicPr/>
          <p:nvPr/>
        </p:nvPicPr>
        <p:blipFill>
          <a:blip r:embed="rId1"/>
          <a:srcRect l="79773" t="30750" r="0" b="7691"/>
          <a:stretch/>
        </p:blipFill>
        <p:spPr>
          <a:xfrm>
            <a:off x="5334120" y="5486400"/>
            <a:ext cx="1120680" cy="1220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Protein Structure.jpg"/>
          <p:cNvPicPr/>
          <p:nvPr/>
        </p:nvPicPr>
        <p:blipFill>
          <a:blip r:embed="rId2"/>
          <a:srcRect l="0" t="2369" r="3118" b="75717"/>
          <a:stretch/>
        </p:blipFill>
        <p:spPr>
          <a:xfrm>
            <a:off x="1905120" y="5448240"/>
            <a:ext cx="2320920" cy="1409760"/>
          </a:xfrm>
          <a:prstGeom prst="rect">
            <a:avLst/>
          </a:prstGeom>
          <a:ln w="0">
            <a:noFill/>
          </a:ln>
        </p:spPr>
      </p:pic>
      <p:cxnSp>
        <p:nvCxnSpPr>
          <p:cNvPr id="158" name="Straight Arrow Connector 8"/>
          <p:cNvCxnSpPr/>
          <p:nvPr/>
        </p:nvCxnSpPr>
        <p:spPr>
          <a:xfrm>
            <a:off x="4343400" y="6095520"/>
            <a:ext cx="838800" cy="252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4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1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5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3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73" dur="20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2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9" dur="2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2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Where can Proteins be found?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uscle, cartilage, ligaments, skin, and hai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moglobin, hormones (insulin) antibodies, and enzym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urc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</a:rPr>
              <a:t>Beef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Calibri"/>
              </a:rPr>
              <a:t>Poult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alibri"/>
              </a:rPr>
              <a:t>Fis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alibri"/>
              </a:rPr>
              <a:t>Egg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Dairy produc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</a:rPr>
              <a:t>Nu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Calibri"/>
              </a:rPr>
              <a:t>See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alibri"/>
              </a:rPr>
              <a:t>Legumes (beans, peas, lentil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7" dur="indefinite" restart="never" nodeType="tmRoot">
          <p:childTnLst>
            <p:seq>
              <p:cTn id="1498" dur="indefinite" nodeType="mainSeq">
                <p:childTnLst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0" dur="1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1" dur="4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4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9" dur="1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0" dur="4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4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1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8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4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7" dur="1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9" dur="10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10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Organic Chemistry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23520" y="1218960"/>
            <a:ext cx="67820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tudy of all compounds that contain bonds between carbon ato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makes Carbon so important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bond with many ele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ydroge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xyge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hosphoru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ulfur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itroge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bond with other carbon ato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rm chains, almost unlimited in lengt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Carbon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3520" y="106632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arbon-carbon bonds (covalent) can be single, double, or tripl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bility to form millions of different large and complex structur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838080" y="2971800"/>
            <a:ext cx="1447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Straight Connector 5"/>
          <p:cNvSpPr/>
          <p:nvPr/>
        </p:nvSpPr>
        <p:spPr>
          <a:xfrm flipH="1">
            <a:off x="1600200" y="3276720"/>
            <a:ext cx="1440" cy="2286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Straight Connector 6"/>
          <p:cNvSpPr/>
          <p:nvPr/>
        </p:nvSpPr>
        <p:spPr>
          <a:xfrm flipH="1">
            <a:off x="1600200" y="3886200"/>
            <a:ext cx="1440" cy="2286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Straight Connector 10"/>
          <p:cNvSpPr/>
          <p:nvPr/>
        </p:nvSpPr>
        <p:spPr>
          <a:xfrm>
            <a:off x="1752480" y="3657600"/>
            <a:ext cx="228600" cy="144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Straight Connector 11"/>
          <p:cNvSpPr/>
          <p:nvPr/>
        </p:nvSpPr>
        <p:spPr>
          <a:xfrm>
            <a:off x="1219320" y="3657600"/>
            <a:ext cx="228600" cy="144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3124080" y="3581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Straight Connector 13"/>
          <p:cNvSpPr/>
          <p:nvPr/>
        </p:nvSpPr>
        <p:spPr>
          <a:xfrm>
            <a:off x="4191120" y="3809880"/>
            <a:ext cx="228600" cy="0"/>
          </a:xfrm>
          <a:prstGeom prst="line">
            <a:avLst/>
          </a:prstGeom>
          <a:ln w="7632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Straight Connector 14"/>
          <p:cNvSpPr/>
          <p:nvPr/>
        </p:nvSpPr>
        <p:spPr>
          <a:xfrm>
            <a:off x="4724280" y="3809880"/>
            <a:ext cx="228600" cy="18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Straight Connector 15"/>
          <p:cNvSpPr/>
          <p:nvPr/>
        </p:nvSpPr>
        <p:spPr>
          <a:xfrm>
            <a:off x="3657600" y="3809880"/>
            <a:ext cx="228600" cy="18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17"/>
          <p:cNvSpPr/>
          <p:nvPr/>
        </p:nvSpPr>
        <p:spPr>
          <a:xfrm>
            <a:off x="1752480" y="495288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     </a:t>
            </a: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     </a:t>
            </a: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                             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Straight Connector 19"/>
          <p:cNvSpPr/>
          <p:nvPr/>
        </p:nvSpPr>
        <p:spPr>
          <a:xfrm>
            <a:off x="3048120" y="5715000"/>
            <a:ext cx="228600" cy="144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Straight Connector 22"/>
          <p:cNvSpPr/>
          <p:nvPr/>
        </p:nvSpPr>
        <p:spPr>
          <a:xfrm>
            <a:off x="2514600" y="5715000"/>
            <a:ext cx="228600" cy="1440"/>
          </a:xfrm>
          <a:prstGeom prst="line">
            <a:avLst/>
          </a:prstGeom>
          <a:ln w="7632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Straight Connector 23"/>
          <p:cNvSpPr/>
          <p:nvPr/>
        </p:nvSpPr>
        <p:spPr>
          <a:xfrm>
            <a:off x="3581280" y="5715000"/>
            <a:ext cx="228600" cy="1440"/>
          </a:xfrm>
          <a:prstGeom prst="line">
            <a:avLst/>
          </a:prstGeom>
          <a:ln w="7632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Straight Connector 27"/>
          <p:cNvSpPr/>
          <p:nvPr/>
        </p:nvSpPr>
        <p:spPr>
          <a:xfrm flipV="1">
            <a:off x="4038480" y="5333760"/>
            <a:ext cx="76320" cy="2286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Straight Connector 29"/>
          <p:cNvSpPr/>
          <p:nvPr/>
        </p:nvSpPr>
        <p:spPr>
          <a:xfrm>
            <a:off x="2133000" y="5257800"/>
            <a:ext cx="75960" cy="2286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Straight Connector 31"/>
          <p:cNvSpPr/>
          <p:nvPr/>
        </p:nvSpPr>
        <p:spPr>
          <a:xfrm flipV="1">
            <a:off x="2133000" y="5866920"/>
            <a:ext cx="75960" cy="2286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Straight Connector 33"/>
          <p:cNvSpPr/>
          <p:nvPr/>
        </p:nvSpPr>
        <p:spPr>
          <a:xfrm flipV="1">
            <a:off x="3427560" y="5335200"/>
            <a:ext cx="2880" cy="2286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Straight Connector 36"/>
          <p:cNvSpPr/>
          <p:nvPr/>
        </p:nvSpPr>
        <p:spPr>
          <a:xfrm flipV="1">
            <a:off x="2819520" y="5333760"/>
            <a:ext cx="1440" cy="2286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Straight Connector 38"/>
          <p:cNvSpPr/>
          <p:nvPr/>
        </p:nvSpPr>
        <p:spPr>
          <a:xfrm>
            <a:off x="4114080" y="5867280"/>
            <a:ext cx="152280" cy="2286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39"/>
          <p:cNvSpPr/>
          <p:nvPr/>
        </p:nvSpPr>
        <p:spPr>
          <a:xfrm>
            <a:off x="5867280" y="3352680"/>
            <a:ext cx="228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       </a:t>
            </a: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     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       </a:t>
            </a: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Straight Connector 41"/>
          <p:cNvSpPr/>
          <p:nvPr/>
        </p:nvSpPr>
        <p:spPr>
          <a:xfrm flipV="1">
            <a:off x="7008120" y="3735000"/>
            <a:ext cx="3240" cy="2286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Straight Connector 43"/>
          <p:cNvSpPr/>
          <p:nvPr/>
        </p:nvSpPr>
        <p:spPr>
          <a:xfrm flipH="1">
            <a:off x="7008480" y="5869080"/>
            <a:ext cx="3240" cy="2286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Straight Connector 45"/>
          <p:cNvSpPr/>
          <p:nvPr/>
        </p:nvSpPr>
        <p:spPr>
          <a:xfrm flipV="1">
            <a:off x="7695360" y="4266720"/>
            <a:ext cx="228600" cy="30492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Straight Connector 47"/>
          <p:cNvSpPr/>
          <p:nvPr/>
        </p:nvSpPr>
        <p:spPr>
          <a:xfrm flipH="1" flipV="1">
            <a:off x="6171840" y="4191120"/>
            <a:ext cx="228600" cy="30456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Straight Connector 50"/>
          <p:cNvSpPr/>
          <p:nvPr/>
        </p:nvSpPr>
        <p:spPr>
          <a:xfrm flipH="1">
            <a:off x="6248160" y="5334120"/>
            <a:ext cx="152280" cy="2286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Straight Connector 52"/>
          <p:cNvSpPr/>
          <p:nvPr/>
        </p:nvSpPr>
        <p:spPr>
          <a:xfrm>
            <a:off x="7619400" y="5410080"/>
            <a:ext cx="152280" cy="2286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Straight Connector 54"/>
          <p:cNvSpPr/>
          <p:nvPr/>
        </p:nvSpPr>
        <p:spPr>
          <a:xfrm>
            <a:off x="7162200" y="4191120"/>
            <a:ext cx="228600" cy="304560"/>
          </a:xfrm>
          <a:prstGeom prst="line">
            <a:avLst/>
          </a:prstGeom>
          <a:ln w="7632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Straight Connector 57"/>
          <p:cNvSpPr/>
          <p:nvPr/>
        </p:nvSpPr>
        <p:spPr>
          <a:xfrm flipH="1">
            <a:off x="7162560" y="5334120"/>
            <a:ext cx="228600" cy="228600"/>
          </a:xfrm>
          <a:prstGeom prst="line">
            <a:avLst/>
          </a:prstGeom>
          <a:ln w="7632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Straight Connector 58"/>
          <p:cNvSpPr/>
          <p:nvPr/>
        </p:nvSpPr>
        <p:spPr>
          <a:xfrm flipH="1">
            <a:off x="6474960" y="4802040"/>
            <a:ext cx="3240" cy="228600"/>
          </a:xfrm>
          <a:prstGeom prst="line">
            <a:avLst/>
          </a:prstGeom>
          <a:ln w="7632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Straight Connector 62"/>
          <p:cNvSpPr/>
          <p:nvPr/>
        </p:nvSpPr>
        <p:spPr>
          <a:xfrm flipH="1">
            <a:off x="7542360" y="4802040"/>
            <a:ext cx="2880" cy="2286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Straight Connector 63"/>
          <p:cNvSpPr/>
          <p:nvPr/>
        </p:nvSpPr>
        <p:spPr>
          <a:xfrm flipH="1">
            <a:off x="6629040" y="4191120"/>
            <a:ext cx="228600" cy="2286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Straight Connector 64"/>
          <p:cNvSpPr/>
          <p:nvPr/>
        </p:nvSpPr>
        <p:spPr>
          <a:xfrm>
            <a:off x="6628680" y="5334120"/>
            <a:ext cx="152280" cy="228600"/>
          </a:xfrm>
          <a:prstGeom prst="line">
            <a:avLst/>
          </a:prstGeom>
          <a:ln w="5724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5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5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Macromolecule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447920" y="99072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iant molecules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de from thousands or hundreds of thousands of smaller molecul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med by polymeriz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joining together of small compoun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onomer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polym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onomers may be identical or differ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Flowchart: Punched Tape 3"/>
          <p:cNvSpPr/>
          <p:nvPr/>
        </p:nvSpPr>
        <p:spPr>
          <a:xfrm rot="16200000">
            <a:off x="1602720" y="5715360"/>
            <a:ext cx="609480" cy="461880"/>
          </a:xfrm>
          <a:prstGeom prst="flowChartPunchedTap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Flowchart: Punched Tape 4"/>
          <p:cNvSpPr/>
          <p:nvPr/>
        </p:nvSpPr>
        <p:spPr>
          <a:xfrm rot="16200000">
            <a:off x="1983600" y="5715360"/>
            <a:ext cx="609480" cy="461880"/>
          </a:xfrm>
          <a:prstGeom prst="flowChartPunchedTap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Flowchart: Punched Tape 5"/>
          <p:cNvSpPr/>
          <p:nvPr/>
        </p:nvSpPr>
        <p:spPr>
          <a:xfrm rot="16200000">
            <a:off x="2745720" y="5715360"/>
            <a:ext cx="609480" cy="461880"/>
          </a:xfrm>
          <a:prstGeom prst="flowChartPunchedTap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Flowchart: Punched Tape 6"/>
          <p:cNvSpPr/>
          <p:nvPr/>
        </p:nvSpPr>
        <p:spPr>
          <a:xfrm rot="16200000">
            <a:off x="2364480" y="5715000"/>
            <a:ext cx="609480" cy="462240"/>
          </a:xfrm>
          <a:prstGeom prst="flowChartPunchedTap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Flowchart: Punched Tape 7"/>
          <p:cNvSpPr/>
          <p:nvPr/>
        </p:nvSpPr>
        <p:spPr>
          <a:xfrm rot="16200000">
            <a:off x="3126600" y="5715360"/>
            <a:ext cx="609480" cy="461880"/>
          </a:xfrm>
          <a:prstGeom prst="flowChartPunchedTap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Flowchart: Punched Tape 8"/>
          <p:cNvSpPr/>
          <p:nvPr/>
        </p:nvSpPr>
        <p:spPr>
          <a:xfrm rot="16200000">
            <a:off x="3507480" y="5715000"/>
            <a:ext cx="609480" cy="462240"/>
          </a:xfrm>
          <a:prstGeom prst="flowChartPunchedTap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Flowchart: Punched Tape 9"/>
          <p:cNvSpPr/>
          <p:nvPr/>
        </p:nvSpPr>
        <p:spPr>
          <a:xfrm rot="12811800">
            <a:off x="7163640" y="5082480"/>
            <a:ext cx="609480" cy="460440"/>
          </a:xfrm>
          <a:prstGeom prst="flowChartPunchedTap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Flowchart: Punched Tape 10"/>
          <p:cNvSpPr/>
          <p:nvPr/>
        </p:nvSpPr>
        <p:spPr>
          <a:xfrm rot="11663400">
            <a:off x="4620960" y="4944240"/>
            <a:ext cx="609480" cy="460440"/>
          </a:xfrm>
          <a:prstGeom prst="flowChartPunchedTap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Flowchart: Punched Tape 11"/>
          <p:cNvSpPr/>
          <p:nvPr/>
        </p:nvSpPr>
        <p:spPr>
          <a:xfrm rot="20386800">
            <a:off x="5775120" y="5045040"/>
            <a:ext cx="614160" cy="457200"/>
          </a:xfrm>
          <a:prstGeom prst="flowChartPunchedTap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Flowchart: Punched Tape 12"/>
          <p:cNvSpPr/>
          <p:nvPr/>
        </p:nvSpPr>
        <p:spPr>
          <a:xfrm rot="19662600">
            <a:off x="5180040" y="5919480"/>
            <a:ext cx="614160" cy="457200"/>
          </a:xfrm>
          <a:prstGeom prst="flowChartPunchedTap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Bent Arrow 13"/>
          <p:cNvSpPr/>
          <p:nvPr/>
        </p:nvSpPr>
        <p:spPr>
          <a:xfrm rot="10800000">
            <a:off x="4114800" y="5565600"/>
            <a:ext cx="768240" cy="5335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4"/>
          <p:cNvSpPr/>
          <p:nvPr/>
        </p:nvSpPr>
        <p:spPr>
          <a:xfrm>
            <a:off x="6095880" y="5794200"/>
            <a:ext cx="13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mon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5"/>
          <p:cNvSpPr/>
          <p:nvPr/>
        </p:nvSpPr>
        <p:spPr>
          <a:xfrm>
            <a:off x="2286000" y="50324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poly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4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4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ounded Rectangle 5"/>
          <p:cNvSpPr/>
          <p:nvPr/>
        </p:nvSpPr>
        <p:spPr>
          <a:xfrm>
            <a:off x="914400" y="1371600"/>
            <a:ext cx="1600200" cy="2438280"/>
          </a:xfrm>
          <a:custGeom>
            <a:avLst/>
            <a:gdLst>
              <a:gd name="textAreaLeft" fmla="*/ 78120 w 1600200"/>
              <a:gd name="textAreaRight" fmla="*/ 1522080 w 1600200"/>
              <a:gd name="textAreaTop" fmla="*/ 78120 h 2438280"/>
              <a:gd name="textAreaBottom" fmla="*/ 2360160 h 2438280"/>
            </a:gdLst>
            <a:ahLst/>
            <a:rect l="textAreaLeft" t="textAreaTop" r="textAreaRight" b="textAreaBottom"/>
            <a:pathLst>
              <a:path w="21600" h="32910">
                <a:moveTo>
                  <a:pt x="3600" y="0"/>
                </a:moveTo>
                <a:arcTo wR="3600" hR="3600" stAng="16200000" swAng="-5400000"/>
                <a:lnTo>
                  <a:pt x="0" y="29310"/>
                </a:lnTo>
                <a:arcTo wR="3600" hR="3600" stAng="10800000" swAng="-5400000"/>
                <a:lnTo>
                  <a:pt x="18000" y="329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Organic Compound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90560" y="1447560"/>
            <a:ext cx="6553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96ff"/>
                </a:solidFill>
                <a:latin typeface="Calibri"/>
              </a:rPr>
              <a:t>Carbohydra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de of carbon (C), hydrogen (H), &amp; oxygen (O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 : 2 : 1 ratio  (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34bc9"/>
                </a:solidFill>
                <a:latin typeface="Calibri"/>
              </a:rPr>
              <a:t>Lipi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de of C, H, &amp; 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↑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 : 1 ratio  (H : O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Protei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de of C, H, O, &amp; 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4" descr="carb structure.gif"/>
          <p:cNvPicPr/>
          <p:nvPr/>
        </p:nvPicPr>
        <p:blipFill>
          <a:blip r:embed="rId1"/>
          <a:srcRect l="0" t="0" r="0" b="14897"/>
          <a:stretch/>
        </p:blipFill>
        <p:spPr>
          <a:xfrm>
            <a:off x="990720" y="1371600"/>
            <a:ext cx="1447560" cy="2367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6477120" y="3886200"/>
            <a:ext cx="2496960" cy="1143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amino acid structure.jpg"/>
          <p:cNvPicPr/>
          <p:nvPr/>
        </p:nvPicPr>
        <p:blipFill>
          <a:blip r:embed="rId3"/>
          <a:srcRect l="6811" t="27324" r="4478" b="4647"/>
          <a:stretch/>
        </p:blipFill>
        <p:spPr>
          <a:xfrm>
            <a:off x="541440" y="5562720"/>
            <a:ext cx="2049480" cy="10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0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Carbohydrate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663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so called suga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ergy sour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ortant in building other molecu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ree Typ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nosaccharid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accharid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lysaccharid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4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4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0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685800" y="4724280"/>
            <a:ext cx="16002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560" y="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Monosaccharid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437920" y="838080"/>
            <a:ext cx="6705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mple sugars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 – 7 carbons in cha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alibri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ost abundant sugar on plan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duct of photosynthes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inciple sugar in human bloo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pprox. 5 g (enough for 15 min. of energ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alibri"/>
              </a:rPr>
              <a:t>Galacto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lk suga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alibri"/>
              </a:rPr>
              <a:t>Fructo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ruit suga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wice as sweet as table suga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lucose, galactose, &amp; fructose are all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alibri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somers (different 3-D form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" name="Picture 3" descr="glucose.jpg"/>
          <p:cNvPicPr/>
          <p:nvPr/>
        </p:nvPicPr>
        <p:blipFill>
          <a:blip r:embed="rId1"/>
          <a:stretch/>
        </p:blipFill>
        <p:spPr>
          <a:xfrm>
            <a:off x="685800" y="2057400"/>
            <a:ext cx="1752480" cy="1535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galactose.jpg"/>
          <p:cNvPicPr/>
          <p:nvPr/>
        </p:nvPicPr>
        <p:blipFill>
          <a:blip r:embed="rId2"/>
          <a:stretch/>
        </p:blipFill>
        <p:spPr>
          <a:xfrm>
            <a:off x="5410080" y="3657600"/>
            <a:ext cx="1847880" cy="1536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fructose.png"/>
          <p:cNvPicPr/>
          <p:nvPr/>
        </p:nvPicPr>
        <p:blipFill>
          <a:blip r:embed="rId3"/>
          <a:stretch/>
        </p:blipFill>
        <p:spPr>
          <a:xfrm>
            <a:off x="762120" y="4800600"/>
            <a:ext cx="144756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8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2" dur="5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Disaccharide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95280" y="9140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wo simple sugars bonded togeth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duced through dehydration synthes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moval of water molec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96ff"/>
                </a:solidFill>
                <a:latin typeface="Calibri"/>
              </a:rPr>
              <a:t>Maltose</a:t>
            </a:r>
            <a:r>
              <a:rPr b="0" lang="en-US" sz="2400" spc="-1" strike="noStrike">
                <a:solidFill>
                  <a:srgbClr val="0996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alibri"/>
              </a:rPr>
              <a:t>glucos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+  </a:t>
            </a:r>
            <a:r>
              <a:rPr b="1" lang="en-US" sz="2400" spc="-1" strike="noStrike">
                <a:solidFill>
                  <a:srgbClr val="ff6699"/>
                </a:solidFill>
                <a:latin typeface="Calibri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4bc9"/>
                </a:solidFill>
                <a:latin typeface="Calibri"/>
              </a:rPr>
              <a:t>Sucros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alibri"/>
              </a:rPr>
              <a:t>glucos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+  </a:t>
            </a:r>
            <a:r>
              <a:rPr b="1" lang="en-US" sz="2400" spc="-1" strike="noStrike">
                <a:solidFill>
                  <a:srgbClr val="ff9933"/>
                </a:solidFill>
                <a:latin typeface="Calibri"/>
              </a:rPr>
              <a:t>fructo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Lactos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alibri"/>
              </a:rPr>
              <a:t>glucos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+  </a:t>
            </a:r>
            <a:r>
              <a:rPr b="1" lang="en-US" sz="2400" spc="-1" strike="noStrike">
                <a:solidFill>
                  <a:srgbClr val="3399ff"/>
                </a:solidFill>
                <a:latin typeface="Calibri"/>
              </a:rPr>
              <a:t>galacto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roken down by hydrolys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ition of water molec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3" descr="maltose.gif"/>
          <p:cNvPicPr/>
          <p:nvPr/>
        </p:nvPicPr>
        <p:blipFill>
          <a:blip r:embed="rId1"/>
          <a:srcRect l="4350" t="6835" r="4350" b="9367"/>
          <a:stretch/>
        </p:blipFill>
        <p:spPr>
          <a:xfrm>
            <a:off x="5181480" y="2286000"/>
            <a:ext cx="2895840" cy="1309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rcRect l="4028" t="6910" r="1257" b="3455"/>
          <a:stretch/>
        </p:blipFill>
        <p:spPr>
          <a:xfrm>
            <a:off x="5181480" y="3886200"/>
            <a:ext cx="2895840" cy="801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lactose.gif"/>
          <p:cNvPicPr/>
          <p:nvPr/>
        </p:nvPicPr>
        <p:blipFill>
          <a:blip r:embed="rId3"/>
          <a:srcRect l="5313" t="4308" r="0" b="5385"/>
          <a:stretch/>
        </p:blipFill>
        <p:spPr>
          <a:xfrm>
            <a:off x="5181480" y="4876920"/>
            <a:ext cx="289584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3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0" dur="1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50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50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 rot="1678800">
            <a:off x="-1379520" y="3035160"/>
            <a:ext cx="11349000" cy="228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14240" y="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Polysaccharide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038480" y="838080"/>
            <a:ext cx="51055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lex carbohydra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ly” means man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mple sugars joined into long cha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lay great roles in Biolog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3" descr="polysaccharide.gif"/>
          <p:cNvPicPr/>
          <p:nvPr/>
        </p:nvPicPr>
        <p:blipFill>
          <a:blip r:embed="rId1"/>
          <a:stretch/>
        </p:blipFill>
        <p:spPr>
          <a:xfrm rot="1077600">
            <a:off x="-169920" y="3045960"/>
            <a:ext cx="958680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9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0:26:18Z</dcterms:created>
  <dc:creator>Amy Lynn Sanford</dc:creator>
  <dc:description/>
  <dc:language>en-US</dc:language>
  <cp:lastModifiedBy>joconnor</cp:lastModifiedBy>
  <dcterms:modified xsi:type="dcterms:W3CDTF">2008-11-12T13:39:05Z</dcterms:modified>
  <cp:revision>50</cp:revision>
  <dc:subject/>
  <dc:title>The Chemistry of Life</dc:title>
</cp:coreProperties>
</file>